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AD5-364E-4BC0-AE92-FD9E2C8A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E9F-C19E-4628-8E85-FB9F9209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963-E366-4711-ADE1-13DC970D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F7E-1D58-4F36-884E-723AB500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B957-DD71-48C2-A99E-81FA699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E9D5-CF7C-47D9-81A5-31412C0D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7803-C5CA-44F3-B7F5-C288C9B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D876-7510-4FCF-A712-1DFE994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FB7D-9324-402E-B15C-EC957476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5758-A04E-4E32-807E-FD364719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1559-2C80-48EE-B37C-5781F4C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940-E7D1-41C9-8EAB-792B26C1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DF94-3FFD-4CF6-AB2C-B0C948B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0077-CEED-4DF1-A9A2-B92BB7C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0BB9-9239-48A7-A5F6-4C0B4FD3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07FF-AD4F-4374-A466-A585DB68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8174-D26E-4242-98D5-B9DFFD8F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F72-6552-4EFC-844B-1C047E3F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7E7-CC9A-494B-A65B-EC0ADA5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8D3-DAC2-4C45-8794-E6EDD67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DC6-D412-4CC7-8F00-53DA4CDB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2A4-E778-48EB-AF16-F6A097C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6D4-8FB9-4A2A-9843-B1ADA5F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5D1-F764-460E-849F-B2F7F8C2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91C7-3E54-43D6-A136-124E6809F9D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1DA-7874-466C-87B3-16FAE0774BA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esd/reserve/images/snakes5.jpg&amp;imgrefurl=http://warriorsfansite.wetpaint.com/page/foxclan%2Bfreshkill%2Bpile.&amp;h=787&amp;w=1014&amp;sz=281&amp;hl=en&amp;start=6&amp;tbnid=01HYbm49eZYdlM:&amp;tbnh=116&amp;tbnw=150&amp;prev=/images%3Fq%3Dsnakes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rpnet.net/Iowa-Herpetology/images/stories/reptiles/snakes/Storeria_redbelly_snake/Storeria_RedBellySnakes_03_02.jpg&amp;imgrefurl=http://www.herpnet.net/Iowa-Herpetology/index.php%3Foption%3Dcom_content%26task%3Dview%26id%3D60%26Itemid%3D26&amp;h=311&amp;w=320&amp;sz=77&amp;hl=en&amp;start=13&amp;tbnid=XxnQn9GWdZMqgM:&amp;tbnh=115&amp;tbnw=118&amp;prev=/images%3Fq%3Dsnake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oridasnakes.net/coral-snake.jpg&amp;imgrefurl=http://www.floridasnakes.net/coralsnakes.htm&amp;h=336&amp;w=448&amp;sz=39&amp;hl=en&amp;start=3&amp;tbnid=onbQ0aMnW3-L_M:&amp;tbnh=95&amp;tbnw=127&amp;prev=/images%3Fq%3Dsnakes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esd/reserve/images/snakes3.jpg&amp;imgrefurl=http://cakerockstheparty.wordpress.com/category/dun-dun-dunnnnnnnnnh/&amp;h=541&amp;w=864&amp;sz=110&amp;hl=en&amp;start=5&amp;tbnid=ZEQ7Vpq6lORQTM:&amp;tbnh=91&amp;tbnw=145&amp;prev=/images%3Fq%3Dsnakes%26gbv%3D2%26hl%3Den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gthings.ca/manitoba/pictures/snakes1.jpg&amp;imgrefurl=http://www.bigthings.ca/manitoba/inwood.html&amp;h=337&amp;w=500&amp;sz=41&amp;hl=en&amp;start=2&amp;tbnid=MG0ePcMcvUJRDM:&amp;tbnh=88&amp;tbnw=130&amp;prev=/images%3Fq%3Dsnakes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yfwc.com/critters/images/snake.jpg&amp;imgrefurl=http://myfwc.com/critters/snakes.asp&amp;h=339&amp;w=335&amp;sz=90&amp;hl=en&amp;start=11&amp;tbnid=TnkEeLekV7qrHM:&amp;tbnh=119&amp;tbnw=118&amp;prev=/images%3Fq%3Dsnakes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SHILOH BA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  YOU  THINK  SNAKES  ARE  INTERESTING? IF SO, READ  TO  FIND  OUT  MORE  ABOUT  THEM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809880"/>
            <a:ext cx="30477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RE  ARE  ABOUT  2,800  DIFFERENT  KINDS  OF  SNAK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E  OF  THE  SNAKES  IS  CALLED  A  RATTLE  SNAK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581280"/>
            <a:ext cx="24386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IR  PREY  ARE LARGE BIRDS, MONGOOSES, RACOONS, FOXES, AND COYOT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 LOVE  TO  EAT  MONGOOSES  BECAUSE  THEY  HAVE  LOTS  OF  BLOO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4419720"/>
            <a:ext cx="419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NAKES  ARE  BORN  WITH  YELLOW  T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 ARE  BORN  WITH  YELLOW  TALES  BECAUSE  THEY’RE  ONLY  A  BAB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40384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 SNAKE  CAN  GROW  UP  TO  38  FEET  LONG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 SNAKE  CAN  BE  VERY,VERY  LO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581280"/>
            <a:ext cx="41148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  IF  YOU  HAVE  A  SNAKE  YOU  CAN  KNOW  MORE  ABOUT  IT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1907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10:38Z</dcterms:modified>
  <cp:revision>3</cp:revision>
  <dc:subject/>
  <dc:title>Animal Name</dc:title>
</cp:coreProperties>
</file>